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6AC-D79F-4594-9368-1CA00595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1BC-5B46-4D6E-95C9-61CC81F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306-0714-4E84-A0F5-E693C3E6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002-45D8-42F5-955B-52D8A4F6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434-7647-4C80-A153-00F9CAB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7E6-F98F-4B70-927B-49301A0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928-3EE7-47C5-A171-5FF7992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1BF-8817-4941-8CE9-7B1FA5C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BEC-55E4-4680-9696-F2AD1BB0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311-265A-4BBE-B701-8A7CB34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543-F9C0-460C-9E57-475F3EF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3B5-27D0-4AEE-BC43-CC85CC0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CD4A-23E9-435F-9362-D2EBA6C0B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ЧЕТ ОБ ИСПОЛНЕНИИ БЮДЖЕТА МУЕЗЕРСКОГО МУНИЦИПАЛЬНОГО РАЙОНА ЗА 2020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F:\Логотип\надпись Муезерский.jpg"/>
          <p:cNvPicPr/>
          <p:nvPr/>
        </p:nvPicPr>
        <p:blipFill>
          <a:blip r:embed="rId1"/>
          <a:stretch/>
        </p:blipFill>
        <p:spPr>
          <a:xfrm>
            <a:off x="0" y="0"/>
            <a:ext cx="2592360" cy="169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эрб"/>
          <p:cNvPicPr/>
          <p:nvPr/>
        </p:nvPicPr>
        <p:blipFill>
          <a:blip r:embed="rId2"/>
          <a:stretch/>
        </p:blipFill>
        <p:spPr>
          <a:xfrm>
            <a:off x="7858080" y="214200"/>
            <a:ext cx="1081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людение нормативных значений расходов на оплату труда и содержание муниципальных служащ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692280"/>
          <a:ext cx="8785440" cy="576900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усмотрено расходов на 2020 год согласно постановления 190-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их расходов от нормативных з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Муезерского муниципальн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53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8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6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дмозер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езерское город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0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4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дер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6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козер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0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оль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гозер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м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инг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6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муниципальных учрежд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907920"/>
          <a:ext cx="8229600" cy="2897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1.01.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1.01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ы государственной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енны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ы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" name="Стрелка вверх 10"/>
          <p:cNvSpPr/>
          <p:nvPr/>
        </p:nvSpPr>
        <p:spPr>
          <a:xfrm>
            <a:off x="7596360" y="2781360"/>
            <a:ext cx="196560" cy="216000"/>
          </a:xfrm>
          <a:prstGeom prst="up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Стрелка вниз 11"/>
          <p:cNvGrpSpPr/>
          <p:nvPr/>
        </p:nvGrpSpPr>
        <p:grpSpPr>
          <a:xfrm>
            <a:off x="7534440" y="2170080"/>
            <a:ext cx="334800" cy="397080"/>
            <a:chOff x="7534440" y="2170080"/>
            <a:chExt cx="334800" cy="397080"/>
          </a:xfrm>
        </p:grpSpPr>
        <p:pic>
          <p:nvPicPr>
            <p:cNvPr id="67" name="Стрелка вниз 11" descr=""/>
            <p:cNvPicPr/>
            <p:nvPr/>
          </p:nvPicPr>
          <p:blipFill>
            <a:blip r:embed="rId1"/>
            <a:stretch/>
          </p:blipFill>
          <p:spPr>
            <a:xfrm>
              <a:off x="7534440" y="2170080"/>
              <a:ext cx="3348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650000" y="2205000"/>
              <a:ext cx="108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Стрелка вниз 12"/>
          <p:cNvGrpSpPr/>
          <p:nvPr/>
        </p:nvGrpSpPr>
        <p:grpSpPr>
          <a:xfrm>
            <a:off x="7534440" y="3249720"/>
            <a:ext cx="334800" cy="395280"/>
            <a:chOff x="7534440" y="3249720"/>
            <a:chExt cx="334800" cy="395280"/>
          </a:xfrm>
        </p:grpSpPr>
        <p:pic>
          <p:nvPicPr>
            <p:cNvPr id="70" name="Стрелка вниз 12" descr=""/>
            <p:cNvPicPr/>
            <p:nvPr/>
          </p:nvPicPr>
          <p:blipFill>
            <a:blip r:embed="rId2"/>
            <a:stretch/>
          </p:blipFill>
          <p:spPr>
            <a:xfrm>
              <a:off x="7534440" y="3249720"/>
              <a:ext cx="3348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650000" y="3284640"/>
              <a:ext cx="108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евые задачи на 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2364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бираемости  налоговых и неналоговых доходов и расширение доходного потенциала консолидированного бюджета Муезерского муниципального рай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ервоочередных социальных обязатель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исполнение межбюджетных трансфер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й контро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нормативных значений расходов на оплату труда и содержание муниципальных служащ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е возникновения просроченной кредиторской задолже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налоговой задолженности, обеспечение эффективной работы муниципальной комиссии по дополнительной мобилизации дох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ходы бюджета Муезе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"/>
          <p:cNvPicPr/>
          <p:nvPr/>
        </p:nvPicPr>
        <p:blipFill>
          <a:blip r:embed="rId1"/>
          <a:stretch/>
        </p:blipFill>
        <p:spPr>
          <a:xfrm>
            <a:off x="409680" y="1298520"/>
            <a:ext cx="84344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324640" cy="459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логовые и неналоговые дох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ение в разрезе источников за 2020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130320" y="1433520"/>
            <a:ext cx="8834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бюджетные трансфе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204840" y="1555920"/>
            <a:ext cx="893916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ходы бюдж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204840" y="1555920"/>
            <a:ext cx="893916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ходы бюджета по раздел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28520" y="641520"/>
            <a:ext cx="906624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сроченная кредиторская задолж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2020 году обеспечена выплата заработной платы в полном объеме, включая заработную плату декабря 2020 года (за декабрь в декабре), просроченной кредиторской задолженности по заработной плате н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9:03:41Z</dcterms:created>
  <dc:creator>Пашук</dc:creator>
  <dc:description/>
  <dc:language>en-US</dc:language>
  <cp:lastModifiedBy>1</cp:lastModifiedBy>
  <dcterms:modified xsi:type="dcterms:W3CDTF">2021-03-01T12:44:54Z</dcterms:modified>
  <cp:revision>174</cp:revision>
  <dc:subject/>
  <dc:title>Публичный отчет Главы администрации Муезерского муниципального района</dc:title>
</cp:coreProperties>
</file>