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93C-5C51-4275-BCD2-184B55FA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2598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621-B970-4BA3-959B-AD31AA19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459-68EF-4C27-A235-44AA4F5C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444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16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444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16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20D-7565-46B2-9622-E4D13F54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6539-C47B-4781-AC38-C48C71ED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1351-A6D5-4791-AE34-0030EFA0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FD99-5F21-4669-8724-6444D0DC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6E97-578D-4926-A9EC-D83A4F5D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00DA-7AB3-41E7-BAFE-94FC9356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410760"/>
            <a:ext cx="86216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2FD0-4240-4574-8067-CE6F8ACE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E496-F181-4EB5-9959-71FC54C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0EA-B8FF-4FA9-8B05-F325C6A5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7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A79C-DEA0-41D3-A570-8040BE1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0AD0-148D-4F11-A90C-737ABC95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2598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2302-2F16-4123-88C1-8B352BD8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7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40B4-E4EC-4C35-AF2E-DB89423D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444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816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444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816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4A44-53D8-4C6C-972C-F899B42D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1C9-B831-4A75-A96D-25777FB4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EEA-F038-47E3-BA81-6AB08549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E9A-5C5E-4CD8-B452-B90C8B98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410760"/>
            <a:ext cx="86216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F96-7F20-4A67-898F-B60E321B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589-F99D-4E91-8988-E0FA0144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9EF-5905-40A1-AB01-9AB4AFA2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6DF-FB9A-4A05-8E4B-A59D21A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9880"/>
            <a:ext cx="9051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83B59-95D2-4A6B-9999-4A9B7FB1A1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6080" y="630072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9640" y="6318000"/>
            <a:ext cx="32032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000"/>
            <a:ext cx="23288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87C23-B66E-4ECC-8F36-1C3DC5A117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00360" y="804960"/>
            <a:ext cx="61196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417240"/>
            <a:ext cx="86295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Материальное положение Вашей семьи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92000" y="1944720"/>
          <a:ext cx="7883640" cy="4541400"/>
        </p:xfrm>
        <a:graphic>
          <a:graphicData uri="http://schemas.openxmlformats.org/drawingml/2006/table">
            <a:tbl>
              <a:tblPr/>
              <a:tblGrid>
                <a:gridCol w="4950000"/>
                <a:gridCol w="2933640"/>
              </a:tblGrid>
              <a:tr h="638280"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енег не хватает даже на 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питание денег хватает, но одежду,обувь купить не мож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одежду,обувь денег хватает, но крупную бытовую технику купить не мож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бытовую технику денег хватает, но автомобиль купить не мож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автомобиль денег хватает, но квартиру или дом купить не мож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квартиру или дом денег хват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463680"/>
            <a:ext cx="862956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аше нынешнее состояние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52360" y="1619280"/>
          <a:ext cx="7775640" cy="3974760"/>
        </p:xfrm>
        <a:graphic>
          <a:graphicData uri="http://schemas.openxmlformats.org/drawingml/2006/table">
            <a:tbl>
              <a:tblPr/>
              <a:tblGrid>
                <a:gridCol w="4432320"/>
                <a:gridCol w="3343320"/>
              </a:tblGrid>
              <a:tr h="771840"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711000">
                <a:tc>
                  <a:txBody>
                    <a:bodyPr lIns="90000" rIns="90000" tIns="2786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е идет хорош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2786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 все идет хорошо, как хотелось бы, но мне удается преодолевать труд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58520">
                <a:tc>
                  <a:txBody>
                    <a:bodyPr lIns="90000" rIns="90000" tIns="2786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Жить очень трудно, но пока еще можно терп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58520">
                <a:tc>
                  <a:txBody>
                    <a:bodyPr lIns="90000" rIns="90000" tIns="2786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ерпеть такое бедственное положение уже невозмож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9640" y="682560"/>
            <a:ext cx="7380000" cy="5648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СПАСИБО  ЗА ВНИМАНИЕ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20720" y="2303640"/>
          <a:ext cx="8710560" cy="4463640"/>
        </p:xfrm>
        <a:graphic>
          <a:graphicData uri="http://schemas.openxmlformats.org/drawingml/2006/table">
            <a:tbl>
              <a:tblPr/>
              <a:tblGrid>
                <a:gridCol w="1243080"/>
                <a:gridCol w="1244520"/>
                <a:gridCol w="1244520"/>
                <a:gridCol w="1243080"/>
                <a:gridCol w="1244520"/>
                <a:gridCol w="1244880"/>
                <a:gridCol w="1245960"/>
              </a:tblGrid>
              <a:tr h="1639440">
                <a:tc>
                  <a:txBody>
                    <a:bodyPr lIns="90000" rIns="90000" tIns="71604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8-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5-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-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5-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5-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5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414080"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УЖ.-42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1414080"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ЖЕН.-5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720720" y="425520"/>
            <a:ext cx="86360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 опросе приняло участие 100 респонд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469440"/>
            <a:ext cx="863604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ровень доверия органам местного самоуправления Муезерского района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20720" y="1979640"/>
          <a:ext cx="8454960" cy="3564000"/>
        </p:xfrm>
        <a:graphic>
          <a:graphicData uri="http://schemas.openxmlformats.org/drawingml/2006/table">
            <a:tbl>
              <a:tblPr/>
              <a:tblGrid>
                <a:gridCol w="2817720"/>
                <a:gridCol w="2818080"/>
                <a:gridCol w="2819160"/>
              </a:tblGrid>
              <a:tr h="1383840"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ля доверя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ля не доверя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093320">
                <a:tc>
                  <a:txBody>
                    <a:bodyPr lIns="90000" rIns="90000" tIns="5256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взвешенное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1405440"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уезерский  рай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76360" y="360360"/>
            <a:ext cx="6624720" cy="676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468000"/>
            <a:ext cx="863424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онцентрация проблемных зон муниципалитето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468360"/>
            <a:ext cx="86360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асыщенность информационного поля сведениями о деятельности органов местного самоуправления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36720" y="1716120"/>
          <a:ext cx="8136000" cy="5268600"/>
        </p:xfrm>
        <a:graphic>
          <a:graphicData uri="http://schemas.openxmlformats.org/drawingml/2006/table">
            <a:tbl>
              <a:tblPr/>
              <a:tblGrid>
                <a:gridCol w="3529080"/>
                <a:gridCol w="2095200"/>
                <a:gridCol w="2511720"/>
              </a:tblGrid>
              <a:tr h="924120">
                <a:tc>
                  <a:txBody>
                    <a:bodyPr lIns="90000" rIns="90000" tIns="602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нформации достато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нформации не достато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уезер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ондопож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оух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ахденпох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двежьегор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лонец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иткярант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ионеж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яжин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удож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егеж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ортаваль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уоярв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415800"/>
            <a:ext cx="86281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Получение информации о происходящем  событии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36720" y="2023920"/>
          <a:ext cx="8315280" cy="3806640"/>
        </p:xfrm>
        <a:graphic>
          <a:graphicData uri="http://schemas.openxmlformats.org/drawingml/2006/table">
            <a:tbl>
              <a:tblPr/>
              <a:tblGrid>
                <a:gridCol w="4827600"/>
                <a:gridCol w="3487680"/>
              </a:tblGrid>
              <a:tr h="561240">
                <a:tc>
                  <a:txBody>
                    <a:bodyPr lIns="90000" rIns="90000" tIns="2397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азе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ди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елевид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нтерн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7760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 друзей, родственников,знаком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руг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92000" y="936720"/>
          <a:ext cx="8207640" cy="5037120"/>
        </p:xfrm>
        <a:graphic>
          <a:graphicData uri="http://schemas.openxmlformats.org/drawingml/2006/table">
            <a:tbl>
              <a:tblPr/>
              <a:tblGrid>
                <a:gridCol w="3262320"/>
                <a:gridCol w="2384640"/>
                <a:gridCol w="2560680"/>
              </a:tblGrid>
              <a:tr h="8712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оциальные отра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ля удовлетворенных качеством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 удовлетворе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м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8197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ультура и организация дос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819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шко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819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Шко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890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полните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8172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дравоохра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63640" y="576360"/>
          <a:ext cx="8207280" cy="5846760"/>
        </p:xfrm>
        <a:graphic>
          <a:graphicData uri="http://schemas.openxmlformats.org/drawingml/2006/table">
            <a:tbl>
              <a:tblPr/>
              <a:tblGrid>
                <a:gridCol w="3213000"/>
                <a:gridCol w="2741760"/>
                <a:gridCol w="2252520"/>
              </a:tblGrid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оставляющие инфра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веты «удовлетворены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веты «не удовлетворен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Электроснаб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еплоснаб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890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одоснаб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водоотвед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азоснаб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82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автомобильных до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анспортное обслуж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870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еспечение общественного порядка и безопас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08000" y="703440"/>
          <a:ext cx="8237520" cy="5606640"/>
        </p:xfrm>
        <a:graphic>
          <a:graphicData uri="http://schemas.openxmlformats.org/drawingml/2006/table">
            <a:tbl>
              <a:tblPr/>
              <a:tblGrid>
                <a:gridCol w="4494240"/>
                <a:gridCol w="3743280"/>
              </a:tblGrid>
              <a:tr h="834840">
                <a:tc>
                  <a:txBody>
                    <a:bodyPr lIns="90000" rIns="90000" tIns="40284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79488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статься жить в том же населенном пункте, где сей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94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район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9596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г.Петрозавод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94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другой район республики (кроме Петрозаводс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9488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другой регион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9704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другую стр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/>
  <cp:lastPrinted>2018-10-23T04:27:29Z</cp:lastPrinted>
  <dcterms:modified xsi:type="dcterms:W3CDTF">2017-07-28T08:36:56Z</dcterms:modified>
  <cp:revision>52</cp:revision>
  <dc:subject/>
  <dc:title/>
</cp:coreProperties>
</file>